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AutoShape 1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AutoShape 2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dt" idx="15"/>
          </p:nvPr>
        </p:nvSpPr>
        <p:spPr>
          <a:xfrm>
            <a:off x="3884760" y="-36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ldImg"/>
          </p:nvPr>
        </p:nvSpPr>
        <p:spPr>
          <a:xfrm>
            <a:off x="985320" y="733320"/>
            <a:ext cx="4883400" cy="366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body"/>
          </p:nvPr>
        </p:nvSpPr>
        <p:spPr>
          <a:xfrm>
            <a:off x="685440" y="4642920"/>
            <a:ext cx="5483160" cy="43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sldNum" idx="16"/>
          </p:nvPr>
        </p:nvSpPr>
        <p:spPr>
          <a:xfrm>
            <a:off x="3884760" y="928332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5F0DDE-53DC-4B85-903B-C71A00D399A4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20A229F-9879-4731-BAEA-9BEECA7E9663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642920"/>
            <a:ext cx="54864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F6172D8-D2E1-4863-B23E-009B1ADE1B15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62497F5-74F5-4FD2-9195-6C7FC5FFFD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F220F8-2EFB-464B-A4E0-93CB0BB65154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614C09E-F3E1-402C-B2AF-1612A6CAC6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5C9F7CF-222C-4072-87B6-95005CB64457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DAC4825-8DF8-4DA9-9AD1-C1309E77EE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C34D0A-CE38-4BD4-A8B5-F565FC0DC985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856850F-1AAE-4D25-87CF-5BA4DBEE58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A3AF8C-0676-4796-A5A0-A65FEBB22864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F62FDD-F1F1-45B4-9105-967E0F1D1F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79C612-2635-4E93-BC8E-E325B397BCCF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151C916-7BE8-4022-B117-7A813EF054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6AC5F2-812F-4F00-9D44-5944E0A8F147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26772E-6B9B-4D31-9784-9AFC6718B1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E9B5594-568C-4A2B-9072-976F13120232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6E286DF-63C8-4E97-A538-13F5A8071D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EFC3850-0545-4185-B16F-4EEBC2043E78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88CAEA4-4D7C-48AB-BE46-892FE1E4D7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62F6A85-ADE0-44FD-8D1C-CBD585AC3F74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B820B25-4BD8-4782-B9E4-C0D1C22763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DDF97-56B3-48CC-90B2-D003081A2B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9D53A-CE7C-4791-ADC7-BE49216C7B3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2D6F3-2C03-4F04-9586-C9D30846840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FA47A-4B39-4A27-BDB5-4D6FBB127C1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1744D-650E-47BC-A5A1-00B76503DBD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B9623-E3F1-41BF-A091-E77E807D041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9F510-BDE7-46C0-84CB-DF96054B59B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2E368-CEBE-4526-BB54-9E36DCDBEEB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FE23B-3809-4BE7-A451-3E1A1434841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C10AE-66BE-4597-844B-E03479B23C3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2DE56-D9AC-43D5-A4DD-2348346DFAB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EE1949-92FD-40E3-B84F-DCD5FD1D10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2065F-E472-4427-9303-1098586F20B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061B1D-6D21-48D1-8E09-11FE2912370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C43E35-5619-49DE-BBCE-55916EA65EC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C822A5-E9BF-4F3F-95E0-669DB43400B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416E36-0077-4A7E-9545-2D27BBF3A71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87F991-0D06-4105-9EC2-1487CAA2C54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A20D5A-044A-4EF6-86F5-F43956FFD32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412410-A23E-411D-AD83-102BDA5B036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50A5F8-1F7A-45B9-A61B-13A549E4EE2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F4F8EC-6FF5-45FE-BDC4-1945384F39F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E4B776-2585-4E90-A0FC-464420AF2E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CD163-B6CC-4519-8F7B-E0404A0D909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69D54E-5ADE-4B50-9A5B-85450B0C90D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D14556-59E5-4C59-B8BE-C5C3AE7A158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96AD11-EC84-4306-83EC-5A5C8CABB86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375379-8861-4804-810D-7DB87C7334F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763D05-E9FC-4D5B-8BA9-E1A8AFE0637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7C064D-FF7B-49C3-9498-8C137E4457D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E6580C-8C90-4238-9BC5-E9D4804EEEC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47D937-1738-47C1-A7BC-E3FC0D2CCA4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895270-E0B8-488D-A9FD-31A82D0A18A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9565A5-D1B1-4072-ACAF-A88937646E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209BE-EE50-4D0A-B8FB-756295CF338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7CDF9C-D432-43F8-B129-ED8B211C94A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F96FF7-3F1B-4592-9F5A-D74EE3012FD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E984E2-2791-47C3-8B0F-43AB4C24834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2AFA3-2ED9-4702-BD35-DD0D5A13204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55949-9C49-456D-99F1-0C7A39C8D90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917D0-C80E-45C8-85FF-026B5C604FE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3B6E0-6F15-4206-9CC2-809143C8744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55BF0-FD97-4114-8FA2-257D5684259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2FEFD-6E22-4794-8FCA-BD84A68C959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398E1-6082-450C-8F44-7709C6B1DC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FA0C9-8AF6-454C-8D58-F7C5E4CA799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51A5E-3395-4467-9CED-5F2BD81B748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52970-476B-4F73-A40E-A75AAA53F87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90990-326E-410C-BE14-22EE023CC5F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83C21-7C13-4A95-8961-29ABB859A19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8B014-4604-4994-AEA8-A65AF05683D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B345FE-4EAC-459A-A130-A5899E25FE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5FBF91-3F94-4115-9DFF-FC58FF82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77517D-D1EE-40A2-9EF9-278DDE44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2533FA-836E-4ED1-B063-08BC4D3D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4EB66E-FCE2-41C9-8CE6-15363FCAC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A8274-E6CA-480E-84D6-7D3DB2FCB60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4E0954-219E-42D9-974E-569C25055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469682-385F-4EE6-B559-B6F71785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E13459-35A6-41F7-B7A1-AB577C41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3021BB-B69D-4A5D-AFD9-A69DF62C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12F65C-BAF1-46BA-926C-9487C873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832DA9-09FC-48AF-9542-FBD779C6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178459-4C1F-4FAD-A2FF-07EEE858A6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9151A-7A4F-4EDA-9F9D-F0C2EACEF0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40966-4FAF-4629-94E3-2638040D0D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F48D4-5A54-41E6-ABED-52C2E7E4E4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63B9D-044D-43E2-8716-219FCC4B0C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0D88B-E8D1-48C1-B9CB-39A3A0AACF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1A18A-BF57-4212-BB04-2614DF39A9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BF004-BBA0-444F-9594-073C3FF27F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EE4CB-0B65-4AE7-BBC6-8081C84F6D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17C04-EC4D-4273-9280-1455C6388E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65CDF-0377-4876-A71E-1E7B1BF0E81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87EF-A2F0-4200-A1FC-028CBAB7B22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1A01-03C2-41C2-B7FE-9DFAABADD52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C397-CDCA-408D-852A-969828E6A6C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DDF6-EB55-45C9-96F3-A3E1BA0FC09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3720-32AC-411D-9370-494725880A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EBE53-4DB7-4B21-BABD-667B8C7DAEA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A7A4-72A3-4531-B585-0A5530DFF8D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342E-F728-4427-B351-169C6256CE1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FFBC-3BBA-4F9A-9C14-DE99173EC70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6C1D-A8D3-4310-862B-AAE76438C0F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5285-4502-4B66-9D5B-ACDB795CBBB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DE69-5C06-4836-9005-B7D9BB523B6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F4CB-2B0F-4ABB-9605-3CC9687D0FD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9F288-F9EE-4382-A008-04374C53F67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198ED4-6FC8-41C9-836D-BB46EFCB8BA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2291F-7674-4FC3-92E5-6B2874F0E8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4F85F-F175-4CFF-8CC0-8016E295A83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58C67B-4095-4708-B5FC-D58D47A9AC7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7972DD-8780-4717-B71F-9B613A99E97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1ED22-44F6-4DED-A4F8-296017CD24F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9A9EA-5A6B-427D-B3AE-EBFBE911326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7882D-47E4-41B0-9C34-453715E5B8F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28287-604E-4472-8D53-B6A46DB7308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EF18D-A91A-45CE-8013-593505F641F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47F64-8804-4F65-9024-89479A5EA35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C3DA9-1981-44AF-8FCE-839363B5AC5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72D0C-4A74-4016-8F38-516F2DA653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DD463-06E4-4F52-81B6-95507BEFED0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AD8CD-70C8-4539-B4F4-BF8CEED8A2D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D7D6D-2E3A-4290-9B00-6D112D8005D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895CA-60D5-4D1F-90F4-F51D941E5AF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0DE6C-B8D3-41C9-914A-E72DADE6A8B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220BD-9B0A-4EC7-934D-ED09A1C6505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1F7E2-8C5E-4E9B-A7F9-9D8D88B53A3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FE379-EE13-4B31-BB0A-2267471AE0B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8746B-FF16-4C17-9F12-F3062317131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25A32-8F77-441D-B559-E897FEEF5A6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E538E-FD9F-4562-A402-69971855D3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5209C-91F4-4BC6-B84F-BB3FB7F2C07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31B5E-0D9E-4C3B-91EF-2CEE39C6A88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5A92-D46B-4A87-B5CE-A88B90F0814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84AB-A8E2-4EE6-A9DE-7D71F0C649A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27E8-0011-41F2-B2DD-E37565A858E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3A3C-2BC1-4D9F-BC2C-5EE713CAAB6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0D45-EC11-4995-8CAF-EC89919FF37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047F-FB5C-4A3A-905A-9D8A34D5476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F8C56-6A9A-44C0-928F-96266A92F40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9D58-9D16-4F2B-8137-E2E11F9AC35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CF50-E8C6-444E-B83D-0BE2490CFC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58007-E9E1-49C2-9CEB-ED70B55AD27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1960-8DD5-45EF-B04C-B3C7BF52152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699C-2EA5-4C8D-9C16-29CEBF8A4B8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2FD8-1D3F-4BCD-82D7-D1A827892A2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48F483-2A22-401A-86F0-2F04AE7D974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90065F-0962-4D09-BB68-FC6E5A175C8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8ECCDC-4E8D-4FFF-8D7D-7E0334BE5BD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391833-8129-4101-9840-3873A44C02C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E03D55-AA87-41D5-A1B3-C460C375689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A4F4A2-3E42-455C-8700-300EBE9C04B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E44401-E17E-4551-8134-3B9CAFB363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9526C-8B74-475E-BCB2-7B83BFE7F19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A0EF90-9C2F-434F-A092-5D6B2F81242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20442A-62C9-4213-8BDF-CF1E6A9CEC6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8EF7FB-42BF-4B55-8B55-818CEE8A29E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705ECD-CD78-4CC8-BFC2-9D03A42FB96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9320FD-9FE6-4E0C-AD6F-C1F506411C1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26DCC8-7A59-47A9-A7F2-8DFC2A973F8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E1B4BC-DA89-472B-AF1C-A7E03525A79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044EC8-E23F-4EF9-9A9D-795D6221DD0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3403F2-F570-484D-8EB3-080CC3CCEBE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467FE1-8117-4633-9B53-8AA92A903A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566B7-9872-41E0-83B6-F6C3AD22739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060F23-399A-45A9-A63B-462952EFE76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C2F169-9846-4611-858B-D8A49D413FE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03C939-9345-4EA8-AE8E-6B40B2135C9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C7CA37-80D3-480D-9267-1C791EBEE95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792071-E3BB-49EE-AA59-E50EEF54377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B17CC2-4735-4485-92C4-385C771B80C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D39E83-7E57-45AD-AF77-6FBAC4DA08C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44FEB-2D8C-44BE-AF20-169637ED5A1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8F460-CE71-4BF9-8C78-88D5783D6A5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B98AB-D83B-491E-98F8-034397710A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620684-F84D-42DD-8F8A-B4B6CE7EC04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3520A9-F7DF-4C2D-AA1B-C537311D5FB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7949FE-25A9-4141-87CB-B49BB2F7E49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9DE51F-2730-4F2C-8379-8EBD46AE5EB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1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1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9C9A940-5AF6-405A-B93B-5BBE62D50B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6EE41BD-983C-4E94-BC81-77C9F46CDA7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EF32D95-5544-4120-A01D-C4DED45B976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DE2E67-2EC2-4D90-A4B5-3404C7A619F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DA76A84-59D0-4202-9CE3-639DEFD80CB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24E8D5-C7EB-4FBB-9A38-5FABBE1ED38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BE66884-3DA5-430D-BFD9-592FC2DAD7F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6B8874A-890E-4119-AE1C-50B5417F868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1FA2564-92AE-425C-92AB-EC1C649B3D7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1"/>
          <p:cNvSpPr/>
          <p:nvPr/>
        </p:nvSpPr>
        <p:spPr>
          <a:xfrm>
            <a:off x="1763640" y="2997360"/>
            <a:ext cx="57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Δια-ιδρυματικό – Διατμηματικό Πρόγραμμα Μεταπτυχιακών Σπουδών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Rectangle 2"/>
          <p:cNvSpPr/>
          <p:nvPr/>
        </p:nvSpPr>
        <p:spPr>
          <a:xfrm>
            <a:off x="1332000" y="4437000"/>
            <a:ext cx="687528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υχοπαιδαγωγική της Ένταξ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826920" y="580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: Παναγιώτης Ν. Μαντάς-Σπυριδούλα Κατσαντώνη-Μαντά Αικατερίνη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4" name="Picture 4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36872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5" descr=""/>
          <p:cNvPicPr/>
          <p:nvPr/>
        </p:nvPicPr>
        <p:blipFill>
          <a:blip r:embed="rId2"/>
          <a:stretch/>
        </p:blipFill>
        <p:spPr>
          <a:xfrm>
            <a:off x="179280" y="0"/>
            <a:ext cx="1009800" cy="11905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6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571920" cy="9428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7" descr=""/>
          <p:cNvPicPr/>
          <p:nvPr/>
        </p:nvPicPr>
        <p:blipFill>
          <a:blip r:embed="rId4"/>
          <a:stretch/>
        </p:blipFill>
        <p:spPr>
          <a:xfrm>
            <a:off x="5003640" y="0"/>
            <a:ext cx="1121040" cy="12193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5"/>
          <a:stretch/>
        </p:blipFill>
        <p:spPr>
          <a:xfrm>
            <a:off x="6156360" y="115920"/>
            <a:ext cx="28670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πόψεις Γονέων παιδιών με ειδικές εκπαιδευτικές ανάγκες για την ένταξη των μαθητών  με εεα/αναπηρίε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2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23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24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27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8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9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Ένταξη και Ενσωμάτωση: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ημασιολογική Διασαφήνιση των όρων- Προσδιορισμοί και Οριοθετήσεις</a:t>
            </a:r>
            <a:br>
              <a:rPr sz="3200"/>
            </a:br>
            <a:br>
              <a:rPr sz="2000"/>
            </a:br>
            <a:br>
              <a:rPr sz="20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: </a:t>
            </a: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Παναγιώτης Ν. Μαντάς-Κατσαντώνη Σπυριδούλα-Μαντά Αικατερίνη</a:t>
            </a:r>
            <a:br>
              <a:rPr sz="20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1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32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33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36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7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8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Ενότητα 4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Ένταξη και Ενσωμάτωση: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ημασιολογική Διασαφήνιση των όρων- Προσδιορισμοί και Οριοθετήσεις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  </a:t>
            </a: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: Παναγιώτης Ν. Μαντάς-Σπυριδούλα Κατσαντώνη-Μαντά Αικατερίνη</a:t>
            </a:r>
            <a:br>
              <a:rPr sz="1800"/>
            </a:br>
            <a:br>
              <a:rPr sz="32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0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51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52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5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6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7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Θεματικοί Άξονες Ενότητας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9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60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61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64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5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6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4.1.Ένταξη και Ενσωμάτωση: </a:t>
            </a:r>
            <a:br>
              <a:rPr sz="2800"/>
            </a:b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ημασιολογική Διασαφήνιση των όρων- Προσδιορισμοί και Οριοθετήσεις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8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69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70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3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4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5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4.2.Αντιλήψει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τάσεις και απόψεις 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ων εκπαιδευτικών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για την ένταξη των μαθητών με εεα/αναπηρίε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7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78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79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2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3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4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3.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Ο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Ρόλος των εκπαιδευτικών και οι απόψεις τους για την ένταξη των μαθητών με  ΕΕΑ/ΑΝΑΠΗΡΙΕ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6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87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88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1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2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3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1"/>
          <p:cNvSpPr/>
          <p:nvPr/>
        </p:nvSpPr>
        <p:spPr>
          <a:xfrm>
            <a:off x="863640" y="1392120"/>
            <a:ext cx="7885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4.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πόψεις  και αντιλήψεις 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ων εκπαιδευτικών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ης Γενικής Τάξης για την ένταξη μαθητών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μ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Ειδικές Μαθησιακές Ανάγκες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μέσα από έρευνες.</a:t>
            </a:r>
            <a:br>
              <a:rPr sz="1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5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96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97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0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1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2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5.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Οι αντιλήψεις των μαθητώ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για την ένταξη των συμμαθητών τους με εεα/αναπηρίε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4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05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06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9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0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1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6.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Οι αντιλήψεις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ου Οικογενειακού Περιβάλλοντο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για την ένταξη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ων μαθητών  με εεα/αναπηρίες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3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14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15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8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9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0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25-10-16T10:06:30Z</dcterms:modified>
  <cp:revision>5</cp:revision>
  <dc:subject/>
  <dc:title/>
</cp:coreProperties>
</file>